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185-4D40-4016-9D19-508ACB89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60D-92A5-4181-A2AF-4A73D0D9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9D2D7-9286-4F4F-97CB-84E525E6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D222A-30B2-401F-AD39-BE5E2BAF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4D43F-932E-4501-9E96-66EB4AF7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AE5C-B506-4C89-AC97-E61F016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52D99-7CF7-43BA-B8C5-ED57A29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3DE1E-E721-471E-9420-EC36F73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C58C-1749-41CC-BE24-328D31A1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B8684-FD34-4E59-8E05-FF65051F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BFBEA-90DE-42BB-B9C8-1D163273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0E903-D4FD-4BC3-89B2-12FD2FA7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2EA-C973-4784-A4DD-46CE5611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FDC81-7C33-4682-AB3B-7BA6CA4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F8009-C958-45D9-A3E5-442F0B6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7B9A5-6F74-48E7-8DF5-EF028459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F789E-DE52-4C5E-AB82-DBC0723F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A7A21-E4EB-4ACE-ACFC-FE9B582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80088-E219-427A-A0ED-89C4B83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36DDF-149D-48E0-B595-2FDAB34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E0873-A463-47B3-B5EE-7E00D35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C3C29-334C-495B-B51E-800C257A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ADB5C-EB6A-4957-B81E-BF01E88F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CD8-6D83-40D6-9C5C-910B3BA7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B5280-A7C9-4D43-B4CD-5EE00538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DA2E4-2A94-4D99-8A07-414AF987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2DAF2-D189-4D2E-8014-BA68E23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E4C5-599E-4B4C-A17D-4C80716D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F5958-836C-41A1-B4C7-F92A4884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AB424-B766-448A-8CBB-AEFEBE6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9016A-E4DF-4DD3-958B-90944A9A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85B8C-9F27-4B77-8C90-C4D9393A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B7F14-6CAA-4148-95F8-29C18A84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AE639-ED7F-43CD-BCD7-CBC7C799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63A0-8229-4815-88D5-9501A482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42397-2645-4BD6-8856-CAE745D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CB970-94B3-4FD1-A043-EF23A0EE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DADCF-2C59-424E-B78B-BA7B98F7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EE4AD-67F5-4321-956F-2BC12E7A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70110-998B-43CB-A5E9-8EC5729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6B2ED-CCF7-4366-8154-49CA206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59803-B27E-451E-860C-E264D646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5F67B-5E97-497C-AA4E-58E7E596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DE21-8934-484A-8929-BDCB5AEA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BC25A-D7E0-4B57-A5C8-70576E0D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2DE9-00EC-40CB-94AA-981F13CD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C2201-B639-418D-B42F-F030AD3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CA4A1-118C-4811-B9B5-E2BDD30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9CF35-1351-47E2-84ED-A5E7DF7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D7378-873B-4B07-91D1-0F359C95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8A7F1-D98D-4979-B1ED-296C52A2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74122-0048-41C1-BB61-4519F3F1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3B96D-1797-4DC5-808E-D2DC691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55388-35AB-4D38-BEA8-FA0487F7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B91B-52E2-4181-B7E5-D6F53F4C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97C52-3ECA-497A-9B3B-F587A233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C884-39CE-4940-971D-E7E123D0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5D9BB-4F0F-4296-A36F-5429038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9B1CF-0ED5-4D2C-90F7-30AAB22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0B087-5345-49AE-AD44-26B5A8D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5911A-B006-4054-93C6-2C2B416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8722A-162C-42CC-A7AD-0B0FE676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E5FF2-89C5-412E-9C1F-4EA3ED0E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8E072-32E4-4B9D-B071-853B64AE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A06C5-B755-444B-9EC5-F3D6441A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11C96-F737-46E5-BF05-BB0569F9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6F2B0-0DD6-402D-B920-8547035A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A73-E4BD-4A94-AC52-95A49308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49E55-4B7B-430E-9496-6C90E29D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D541C-A70B-449B-8D3B-0D3511F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92734-1B96-4853-886B-436F390D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CE59F-DC51-43F0-B8AF-3F95531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136AE-FAF8-436A-8016-31F8ECE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E9559-03DD-4BBC-B5C2-D346EC4B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BA22A-1E6B-4A07-BFD9-572A318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18506-850C-464A-A490-F5AD2F52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94152-465A-4865-9DE1-6C1096B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B73B9-9D14-4579-9F05-D5FA1904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8EFE-2F33-4862-A29E-909DF3A6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FDF5C-CF61-4B16-B4E6-58F51D1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85DFC-3209-419B-98B5-FCA1A011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A917F-985E-4794-862C-6470244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58356-D91D-431D-8E17-60EE6A5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522E6-4E0C-43E9-9F02-3010B2C9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B30EA-39EA-40E9-A3F2-06F8E96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28AA6-4880-4ECB-B4A2-1308B512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0EF56-A692-4039-A642-291A489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1AC00-0BC1-46CA-8272-BC2E24F2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5F3F9-A312-439B-B9A7-D6905C5C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D9A7-F19D-41D9-9DF8-C431F3B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259EE-32DC-4A70-9E69-674E8EE8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5B069-49B3-4E79-8D19-B6080F7E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5FD88-3D18-45B3-9BBF-29623AD1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0FBED-07A8-4C93-959A-4866120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F3A75-E093-4FF1-BC2E-AE0B9D74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0199F-0086-403F-8770-E02CD6E8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4A2CD-8F0D-434F-8B5B-0954ABCC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6D36C-A496-4DCB-8BE7-7E160CF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AEBB2-0D2E-4DA1-9BFE-CE3B845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908D8-DF82-44C0-B701-6F528F3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48CF-8F67-4329-92F0-F20CF32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D1055-D39A-42C1-A782-03888CC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CB42A-C40E-49AA-A1AE-9DC565B8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FD24C-B437-4C68-9EDB-3494774D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C1894-367F-4404-B324-DB1826C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F8A23-8C66-488E-B769-D0DC9176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97308-1E95-4729-8C06-FA4CD95B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4594D-E6D8-429C-8897-B897A13B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2B56D-C49D-4B3D-ACC3-EA2DB9F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E0E683-F06D-4815-A502-AD087FB8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1920D-FA78-4587-A805-B8BDBA2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488-4490-4299-AB08-4DF1A353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959B-FFA0-4E00-8F5F-D42ED00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FB27F-65CC-48B6-B952-538AD4C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A50CE-0145-48CD-AA06-27CDA401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82DFC-D013-4261-A9B0-E9E4628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6A455-EAA3-4053-AD97-BED663AB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41A9C-DE2F-427B-805A-F5260F8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81EEF-E0FC-4B5B-A5A8-EE988AE3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135E6-4C2C-4CE8-AD69-711DC86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41C1F-458C-478A-B020-309AE459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DC1E7-EDD5-4668-813A-BC390B9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26D94-722C-420B-92B8-FC924AD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BD86-4E3A-4CEE-974F-BDE94D2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41FDA-C653-4F6C-A9CA-660F5EC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32260-45EC-4523-8782-E537E10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D2C78-EE0E-4E7F-82EE-4E2ED47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CB0AD-E4C2-4989-A8EC-D85B7BD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7EE70-579C-426A-958C-B2EC02E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34136-FCE4-42D6-BF2A-9687F8F6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3CBA9-57C6-4BAF-84AC-BF537812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4CC83-1318-4285-957F-D54C91F7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D683E-9656-4ED6-BA0B-8ECB4A12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27A87-670E-4BEE-A7DB-4B4DD4B4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F974-2598-4F50-8719-F4B51E8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5B779-1B3A-48F7-B1CE-E667555C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B7FAC-BDCA-420A-A985-8EB1B298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BFAD8-4AE7-4AAC-A7FF-FAE972F8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B515C-5FB9-4254-826E-5533502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8EF2B-14E3-448A-BAE7-23A79BF0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B8262-F663-4C13-8A30-2231866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70EA3-CC0C-47E5-9551-E719B18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13E0B-8505-4B92-96B0-7E556EDF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27A28-1D1C-43CB-8E49-B06FC4CB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A4471-9D28-493D-B3ED-65D9A496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07D7-C28B-40B6-967B-C0DFA429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0E056-ADA4-48A3-9AC4-0C4BE10B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218F1-B447-460F-B64C-2D0B343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0EC13-D15D-4787-B4E6-B36FE58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4C0DC8-5546-4EBE-9EA5-94761C6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95672-F982-4370-92BC-ADBCCF2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6325E-E8DE-4EA2-9779-08CF3831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E1B2F-E93C-4C77-A5A2-1A87D721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7230E-E74D-4DC1-BCE8-3EE3804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1A547-F296-4D3B-BA7C-068025CB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0326C-6A44-4084-8382-9FEDFA21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E050-D94D-4C3F-BB32-DC3EB547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F7184-265D-4263-8C9F-F49A0C0B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027D6-0E52-4EBF-9E9D-CF533AF7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F754D-4166-4D2E-83FA-C525DB5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A6D60-8C52-4930-90B0-00EB81D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D02A9-B169-47A0-AF97-B1EF0E3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E5155-2CC3-4A1B-B180-0E5D2F08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19635-D7E8-4A11-9938-0CC4ACC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C1B38-CB41-4F00-9DB6-2F397CD3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7ACF62-2A12-4477-A02C-379889F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6B0D5F-3CE8-4BA4-8850-BE55C2E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9634-8485-404D-8F4A-0B6F4C1E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F14751-13B6-44C2-99B1-5B8E5EC8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E3D6E-3677-4555-89E4-47E0CCC8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420EB-757D-4B57-890C-A73B940A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12EC1A-096C-4732-9E35-97D8DDD4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FAC63-C1F0-41AC-B3FD-9D1267B3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599C6-1F81-4D13-9545-4ADC9F4E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F78F6-34DF-41CB-BBD5-23A061EF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86895D-3294-4399-93AB-83AB96A8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76909-EBD6-484B-BDAE-EB57FCD3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90F7B3-ED3E-4433-BE5C-46870B0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5CE8-A6E9-42E4-A747-9E4DD7D8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B9307-D718-44B9-90C2-9BA69967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BC042-9CE8-4893-B00F-6479BD4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811254-CF39-4BFA-9B0F-59EDDE1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1451F5-3219-4F0E-9162-E4FF75B3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877F11-5D58-4D6B-BF9A-3DE26C7D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8CD85-C849-4E07-B49C-1183CE83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DAB68-2CF4-4471-9DBB-AC1C59F5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BA3C7-2CC9-4472-9A05-EF351AB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BA4BE3-FA62-45D6-9160-423CADAC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C0E167-6F69-48D8-BA2C-3ECB77F7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87F6-CECB-4728-98CB-3995BCF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2BD0F-B44D-4569-BDF4-4F93EFE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544450-53D1-4AEC-9E1F-06ED0FE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50FFE2-0F15-4986-995E-BCB9527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5B0A6-A269-4E4A-A206-842F2A3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DF9C5-E290-41B5-9CFE-9DF370EA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8E92EB-0F14-489A-B13C-50E9204E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3925B-77BA-4C53-8AFF-B53A4018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417-78C5-4DD0-9EE2-632F03E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EA1A-D153-4014-B5BD-AC19BF70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3CE-2DE1-477E-AED0-1A9C8A43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3D65-F717-4071-8056-34E73238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3909-C065-42F8-9075-3971154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DD30-4537-4F03-960E-713C0179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3840-25AA-4F66-BD30-56DDAC25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D647-8DAB-41EC-AC04-08670EA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3548-2BC6-42A3-8E9D-6B9EE971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8C4A-E54A-4AF4-8B4C-C8DA0A8B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2716-03DD-40FE-BC87-CFBAA679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E22F-9D31-4F0B-8339-AEEA062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62DC-B379-4DB9-A1B8-4EF840A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D7D-8021-4BC5-8867-72E649B0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1E41-1CAE-401A-A095-DAD9199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00DD-DCDF-483D-917C-0D31FB4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B8CA-48D2-411D-8439-0F060E1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A740-66CE-4A5D-B423-FF7DD92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5894-185B-4207-AE94-906C427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44A8-82B1-4146-A8B1-515A826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DC7A-38A1-4AF9-8711-97BBF5CB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1496-3109-424F-A021-A068CF44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40DC-1BBA-4C92-B222-46703575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488F-41A2-48BA-9F22-62D73650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6B4-BEA2-4D4A-A050-1F99691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E69D-FA06-42CE-AACC-1AE9F0B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D1C6-77BB-4769-853D-0F809AD6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4E7E-A5B5-4100-8BE7-1958076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CE7F-D299-497C-A58D-707D6B51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F0177-A42E-4073-B120-A55E8FE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B4C4E-C621-4F9F-94F7-E535A65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881E-DD5C-4675-B26C-861C1DAB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9019-14D2-47C4-ABA0-082E89B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A1A3-3126-49BC-A0A2-911361E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667D-C287-443C-9869-E50EE90D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150-C258-4154-ABD8-0AAE2C14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C4FC-7A09-4768-B1D8-778B27A7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2715-B9EE-4E25-8FE3-93E25F2C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6E70-5061-4BF1-828E-CB7A891C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9203E-33A5-4A36-AAC5-88A65754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1534-FBDD-492C-B468-DF4687E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8195-9102-44B5-897A-FE20681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952F-9798-4FCD-9101-3B40D3D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8D520-B72A-472E-B98C-F366AD7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A3BF-EE76-4177-94AC-55E452BA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C8F7-DF0B-4AE5-8B34-F813845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8E0-7DCF-4BF1-BD36-AC84185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6350-0E1D-4B70-B4A8-EFE3A28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4C10A-A560-4A28-992E-DB1512D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FA00-228E-4B35-A5C7-417C4B5C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CD03-FDA5-4CBD-A044-952CDD62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6F5DC-0608-4A61-A48D-813DA20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F7DE-B143-4704-840F-084BB22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BF83-A7D1-4431-B073-2F119BB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CFFA-4290-449C-8E94-7583AAE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AE079-65CC-40D4-8662-20EB5E0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7E824-FAF3-4D12-B096-3420571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0F-8399-46DB-94C6-0A97649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E048-B62A-48D6-AFF0-A2D7E793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2192-E0C8-4D17-B7D6-3C43E9E7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9BC68-5F03-4618-847A-C58CF85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A613F-018C-4CD0-A257-2C9F0366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BC06F-32FF-4AEE-BDE6-E5BEA589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1CD34-2724-42A4-86F3-5B87DCC2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14DF3-1638-4813-BDAF-6A788E2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CD31-F49C-4EDF-9866-207EA186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AEEA5-21A3-4C1C-93D4-1B772EF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97F0-B238-4E29-A51D-3DB945D2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C49-DFE3-4482-B268-72CAFC6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0ABC-9223-4204-BFF5-C3125D5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C6A62-C0B7-4C8E-AFC0-2BCC722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783E8-438E-46F6-A38F-C450DAD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81602-C3E3-4A90-A86E-FDA9D60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37235-56CB-478A-9C12-3DB6EBE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3E63-0176-46C5-A4AD-D6ED0CC9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6F22-90A0-47F6-A514-B75E79C8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AAEA6-61E1-4B58-832C-DDAE7EAB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AA7E6-6ECE-4993-85E7-E8EA91A1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BF7A-EEF6-46D3-B9E5-78DDD18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8D0-B18F-4707-AFAC-C2D99E5D40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AC2-6551-4F80-BEEB-ABE256C05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1B23-D2C8-4D82-B96C-1E2068AC0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9FEA-EF12-4539-A81E-31F77EEB8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A3A4-EB0F-4F5C-B75C-79FAFF75D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FAF3-C7A6-47C2-A889-9F90F2F4D1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31AF-E347-410B-9659-439BCE634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D2E2-FA3E-44E9-BAB7-811193843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0CE-95FD-49F5-9240-F48CCA40C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A8F-2F16-4C20-8A08-0FE8A08FFD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BB1-917B-4B4C-A16B-F447DF3A0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A66-137E-4E61-AEDF-60C0F53112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7AD-FB29-4D33-82AD-84ED11B0A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0BBD-A48B-4E9D-9CB1-55A63175D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CC9-DAFA-4B3F-ACFD-85BE6F3D85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59C6-CFF5-4383-89DE-E22F0B1619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409-0BED-40E3-A13C-E3531B578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8FF-1F58-4E4B-8DD2-B992F4B5F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5314-828D-4CC8-8C61-C3C1F3E08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0DE-4342-4C3D-96B9-51F79C58E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F167-E004-4ADC-A97E-BFE91A79D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165-87CE-44C2-A49D-2CB16F391A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6FB-9A50-4511-A084-1BDC77C96E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43CE-E8D9-4A02-83A3-ADC642601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1941-5E7D-49D1-872C-E3C0A2981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7AE5-5691-4C68-8D56-DD4D03F8B3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D0F1-3D9E-4B9B-860D-C3AA110F1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28C-24F2-4DEF-9826-46A5053EBB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9729-F201-4EB2-9592-B73759ED8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A177-F0AD-4790-AF70-B5263B84B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793C-518F-42BC-A654-122654FAEA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298A-22DE-4B9A-ABD6-B745D18EF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F5DD-688E-4E73-ADE8-0418EE3CE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F3E9-6A9E-47A0-BC2E-103515ACAA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0365-9A6E-4B1C-B796-7239ECC0A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A21E-416C-4385-A866-117A4F117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21C9-6708-47E0-8ABE-1EBF52916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244-7D62-417F-95F6-16CCB5B1A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CFC3-A0C6-4C22-892C-3AA108D75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4B5-9228-40B5-8A59-1BA88B1673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C92F-3B50-467E-BEC9-0A197782E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5799-DBB2-4399-88A6-07D3F596B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33400" y="3052800"/>
            <a:ext cx="74772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62000" y="1066680"/>
            <a:ext cx="8820000" cy="47246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68360" y="147312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2565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468360" y="515772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95400" y="1066680"/>
            <a:ext cx="8953200" cy="47246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4427640" y="145080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1763640" y="1820880"/>
            <a:ext cx="86544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3995640" y="2195640"/>
            <a:ext cx="86544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1979640" y="256536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1332000" y="292428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2700360" y="366696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8"/>
          <a:stretch/>
        </p:blipFill>
        <p:spPr>
          <a:xfrm>
            <a:off x="2166840" y="4005360"/>
            <a:ext cx="86544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9"/>
          <a:stretch/>
        </p:blipFill>
        <p:spPr>
          <a:xfrm>
            <a:off x="1619280" y="4384800"/>
            <a:ext cx="64908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10"/>
          <a:stretch/>
        </p:blipFill>
        <p:spPr>
          <a:xfrm>
            <a:off x="2556000" y="4743360"/>
            <a:ext cx="64908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1"/>
          <a:stretch/>
        </p:blipFill>
        <p:spPr>
          <a:xfrm>
            <a:off x="2771640" y="5119560"/>
            <a:ext cx="136872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00080" y="1224000"/>
            <a:ext cx="8942400" cy="44100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900000" y="38084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5"/>
          <a:stretch/>
        </p:blipFill>
        <p:spPr>
          <a:xfrm>
            <a:off x="971640" y="417816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6"/>
          <a:stretch/>
        </p:blipFill>
        <p:spPr>
          <a:xfrm>
            <a:off x="900000" y="52578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595520" y="1924200"/>
            <a:ext cx="59529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6:3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